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5EF8-8492-4A8D-9434-D3982E49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29A0-013A-4EEF-AFD8-0AAF1F65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08B0-8177-4BDA-9932-B963CF81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0E5C-982E-43E2-93F6-1D53315A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4BE-8BBB-4E41-8E5E-83D3AB61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1ECC-79C2-4083-B7A9-08BB08C4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66A-BE1C-4517-8566-AFBE8EF3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FC48-C28D-489A-8942-AC5BB20C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96C-D073-42F5-A59E-C9FE4317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ED6A-EA6D-4C52-8687-EAADC205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92E-87B2-438B-85DC-2C65DCB5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BEED-0427-49E8-858B-42701045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1316-762C-48B1-ACAE-46C3C50A1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Verdana"/>
              </a:rPr>
              <a:t>MOROCCO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Verdana"/>
              </a:rPr>
              <a:t>BERBER- ARAB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Moroccans are Berber or Ar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occo was inhabited by Berbers since at least 5000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rabs conquered the territory laying the foundation of an Arab-Berber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2036880"/>
            <a:ext cx="3809880" cy="1869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005440" y="4114800"/>
            <a:ext cx="3095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5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0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Verdana"/>
              </a:rPr>
              <a:t>MOROCCO: LOC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occo is located in the North West of Af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rica is a continent in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rica is in the South Hemi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occo has an extension of 447.000k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92720" y="1981080"/>
            <a:ext cx="2303640" cy="1981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508720" y="4114800"/>
            <a:ext cx="2158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Verdana"/>
              </a:rPr>
              <a:t>Morocco:borde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rocco has international borders with Algeria, Spain(a water border through the Strait and land borders with the small Autonomous cities Ceuta and Melilla), and Maurita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rocco is divided into 16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2152800"/>
            <a:ext cx="38098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Verdana"/>
              </a:rPr>
              <a:t>Climate, population and capital city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4 million people live in Moroc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capital of Morocco is Rabat and the largest city is Casablan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climate is Mediterranean, which becomes more extreme towards the interior regions where it is mountain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76720" y="1981080"/>
            <a:ext cx="2951280" cy="19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64000" y="4114800"/>
            <a:ext cx="252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Verdana"/>
              </a:rPr>
              <a:t>LANDSCAP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if mountains border the country in the Nor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tlas mountains run the country from the Southwest to the Northe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of the South portion of the country is in the Sahara Desert and such as is sparsely populated and unproductive economic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48360" y="1981080"/>
            <a:ext cx="2663640" cy="19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80000" y="4114800"/>
            <a:ext cx="2016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Verdana"/>
              </a:rPr>
              <a:t>ECONOM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jor sources of Moroccan economy are agriculture, phosphates and tour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les of fish and seafood are important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xtiles and clothing is a growing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38760" y="1981080"/>
            <a:ext cx="3429000" cy="1981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32360" y="4076640"/>
            <a:ext cx="3240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Verdana"/>
              </a:rPr>
              <a:t>LANGUAG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occo official language is classical Arab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ximately 12 million people speak Berber, mostly in rural 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, (Morocco’s unofficial  second language) , serves as primary language of commerce and econom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2303640" cy="211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3224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Verdana"/>
              </a:rPr>
              <a:t>FOO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Moroccan national dish i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ajine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lamb or poultry stew. Other common ingredients are almonds, hard-boiled eggs, prunes…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uscou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made from fine grains of wheat is also pop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wee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y and important role in the diet: honey is very appreci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23224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64000" y="4114800"/>
            <a:ext cx="2376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1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Verdana"/>
              </a:rPr>
              <a:t>RELIG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ly dominating religion of Morocco is Isl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ristianity is present, with 100.000 adher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daism still is present in Morocco with a reported group of 5000 and decrea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64000" y="1981080"/>
            <a:ext cx="230364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64000" y="4114800"/>
            <a:ext cx="2303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3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3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sgow Secondary Schools</cp:lastModifiedBy>
  <dcterms:modified xsi:type="dcterms:W3CDTF">2009-03-03T12:00:16Z</dcterms:modified>
  <cp:revision>10</cp:revision>
  <dc:subject/>
  <dc:title>PowerPoint Presentation</dc:title>
</cp:coreProperties>
</file>